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7D4D0-C0A2-4AA6-A7D0-9B5BB480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2401D-C5C8-448A-B2CA-048F65EA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1C3ED-10A0-4015-8DF2-7338B47C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EC595-DC7C-4128-A369-5C5E4622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0C03-C863-4BF8-BA90-5429490E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22B3-7E4D-4190-BC57-F30F1840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B63C-49C3-4685-828E-F0FAD138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D093-F265-4A54-A967-9CADA85A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231B-1F9C-4C00-B2A6-9FBD989D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CBE2-D758-406B-98E6-9C4057F4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EE82-14A2-4FEC-9313-8A3812FE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2FB10-525E-4F9F-A961-5AD35BDB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5AA4-CC80-48E9-B589-88EBD4C7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BF1D-B436-43D6-9C37-75F70344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A9D6-53D1-4F0D-AF5A-9388DCCD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6F32-AE21-4171-AF04-7F2A45F7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35A9-EFD3-4AD5-94EC-6D5E1C5F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930D3-4715-411B-9775-32FE50EC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64FCB-15D4-4D0F-A4F3-53E218CD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820FB-E041-471A-B3AB-E519B143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D6ACD-70FB-4317-AEDB-1AC20A2F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20581-C2E8-4B18-BA41-3AA862E3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BC402-39B0-42D0-9727-80B8ACBC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7D104-851B-40EA-870C-84C2B0F4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6CBD-F984-4822-ADAB-0B2F0A5B355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7D11-6A26-48CD-861F-1E8DC915A43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atadragon.com/education/reading/midi/whole.mid" TargetMode="External"/><Relationship Id="rId2" Type="http://schemas.openxmlformats.org/officeDocument/2006/relationships/hyperlink" Target="http://datadragon.com/education/reading/midi/half.mid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How to Read Music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ef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reble clef:  Higher pitch or sound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ass clef:   Lower Pitch or sou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7010280" cy="606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143000" y="4191120"/>
            <a:ext cx="708660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Time Signatur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 signatures tell you how many and what kind of notes per measure there a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mber on top is the number of notes per measure, and the bottom number is what kind of no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example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/4 i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 quarter notes per measur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/4 i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 quarter notes per meas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Types of Notes: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whole note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an egg on its side, either with a line through it or not.</a:t>
            </a:r>
            <a:br>
              <a:rPr sz="1800"/>
            </a:b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half not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the same as a whole not but with a vertical line attached to it.</a:t>
            </a:r>
            <a:br>
              <a:rPr sz="1800"/>
            </a:b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quarter note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same as a half note except the circle is filled in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743200" y="1371600"/>
            <a:ext cx="3124080" cy="716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2819520" y="2819520"/>
            <a:ext cx="3047760" cy="831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2895480" y="4267080"/>
            <a:ext cx="289584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Types of Rests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whole rest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dark rectangle attached to a bar line, facing downwards.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(1 shown)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half rest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dark rectangle attached to a bar line, facing upwards.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(2 shown)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quarter rest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squiggly line.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(4 shown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581280" cy="772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819520" y="2743200"/>
            <a:ext cx="3581280" cy="809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895480" y="4191120"/>
            <a:ext cx="350532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ry clapping these not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On a keyboard, the white keys are the "natural" notes,   and the black keys are the "sharp" and "flat" notes.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1243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eading notes: </a:t>
            </a: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Treble Clef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taff is made up of five horizontal lines and four spa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we will begin with a staff that shows the notes that correspond to the spaces within it. The notes are spelled F, A, C, 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Reading from bottom to top the notes are F, A, C,E"/>
          <p:cNvPicPr/>
          <p:nvPr/>
        </p:nvPicPr>
        <p:blipFill>
          <a:blip r:embed="rId1"/>
          <a:stretch/>
        </p:blipFill>
        <p:spPr>
          <a:xfrm>
            <a:off x="5791320" y="1905120"/>
            <a:ext cx="1752480" cy="609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48320" y="3048120"/>
            <a:ext cx="403848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eading notes: </a:t>
            </a: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Treble Clef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ext photo show the notes that rest on the lines. These notes are E, G, B, D, F. (E)very (G)ood (B)oy (D)oes (F)in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3985920" y="3191040"/>
            <a:ext cx="11736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28440" tIns="85680" bIns="85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fa641"/>
                </a:solidFill>
                <a:latin typeface="Georgia"/>
                <a:ea typeface="Arial"/>
              </a:rPr>
              <a:t>  </a:t>
            </a:r>
            <a:r>
              <a:rPr b="0" lang="en-US" sz="1200" spc="-1" strike="noStrike">
                <a:solidFill>
                  <a:srgbClr val="dfa641"/>
                </a:solidFill>
                <a:latin typeface="Georgia"/>
                <a:ea typeface="Arial"/>
              </a:rPr>
              <a:t> </a:t>
            </a:r>
            <a:r>
              <a:rPr b="0" lang="en-US" sz="800" spc="-1" strike="noStrike">
                <a:solidFill>
                  <a:srgbClr val="dfa641"/>
                </a:solidFill>
                <a:latin typeface="Georgia"/>
                <a:ea typeface="Arial"/>
              </a:rPr>
              <a:t>                                     </a:t>
            </a:r>
            <a:r>
              <a:rPr b="0" lang="en-US" sz="700" spc="-1" strike="noStrike">
                <a:solidFill>
                  <a:srgbClr val="0364a4"/>
                </a:solidFill>
                <a:latin typeface="Tahoma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Reading from bottom to top the notes are E,G,B,D,F"/>
          <p:cNvPicPr/>
          <p:nvPr/>
        </p:nvPicPr>
        <p:blipFill>
          <a:blip r:embed="rId1"/>
          <a:stretch/>
        </p:blipFill>
        <p:spPr>
          <a:xfrm>
            <a:off x="5867280" y="4267080"/>
            <a:ext cx="2587680" cy="546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40384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1:03:04Z</dcterms:created>
  <dc:creator>Emily McLaughlin</dc:creator>
  <dc:description/>
  <dc:language>en-US</dc:language>
  <cp:lastModifiedBy>Office 2004 Test Drive User</cp:lastModifiedBy>
  <cp:lastPrinted>2009-04-22T19:24:48Z</cp:lastPrinted>
  <dcterms:modified xsi:type="dcterms:W3CDTF">2009-02-12T22:37:32Z</dcterms:modified>
  <cp:revision>5</cp:revision>
  <dc:subject/>
  <dc:title>How to Read Mus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